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7C9-5B69-40CD-B475-AA5ED746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04E-E113-4E28-AC8A-79C94B88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93C-DA7F-4273-9A82-EE5CD7DB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B86-2493-4796-9343-ECF2317B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5385-ED9D-490B-8DFE-A4CE062B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9CAF-2F2C-440B-BF0C-7B592D00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A74F-922E-449C-A6B8-917EFE7E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B9AD-0E86-43CF-82AA-DC1B2C35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FBBA-DD43-4A16-B533-0647E1B3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F184-39CE-4E6A-A3C1-EDE2BCF2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D755-1CDA-45F9-9240-A1055A69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B40-86C4-449A-B057-38E9E2B0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69B1-5A1A-43E6-A360-028FBF87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FBE8-A80F-4588-8F6B-6984666B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B86B-06B8-41A5-8ECF-048A4BC9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BDFA-3AC7-4AD5-BB5C-F2A8DC64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BC50-C00F-4E07-B25E-76C175CE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720-E535-43A3-BC86-1F6CFCC7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D04-8CD9-41E7-87EC-17C26ABB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5E5-112F-459B-9FE9-296D2852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FEF-507A-415C-A7BE-341251F3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9ED-4203-4D0E-B708-65EB00C0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39F-215C-44FC-B6C4-1981722B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C2A-D10C-4D26-99CC-B21474B3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6D55-9E8B-4A0B-B3C9-FEB67FC21D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8944-608E-424E-9E79-9F8B3EB9D6B1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Which popcorn brand pops the most popcorn?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57200" y="281952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Megan Marti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9</a:t>
            </a:r>
            <a:r>
              <a:rPr b="0" lang="en-US" sz="4000" spc="-1" strike="noStrike" baseline="30000">
                <a:solidFill>
                  <a:srgbClr val="ffffcc"/>
                </a:solidFill>
                <a:latin typeface="Verdan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gra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Bellwood Antis High Schoo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ontrol Variabl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oking time-2min 30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placement of the popcorn in the microwa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ame size ba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pcorn brands were all buttered popcor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mperature of room is 22 degrees Celsi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eat level of the microwa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ing the same microwa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ing the popcorn bag face up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Number of popped kernel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1752480"/>
          <a:ext cx="8382240" cy="4267440"/>
        </p:xfrm>
        <a:graphic>
          <a:graphicData uri="http://schemas.openxmlformats.org/drawingml/2006/table">
            <a:tbl>
              <a:tblPr/>
              <a:tblGrid>
                <a:gridCol w="1333800"/>
                <a:gridCol w="1409400"/>
                <a:gridCol w="1447920"/>
                <a:gridCol w="1371600"/>
                <a:gridCol w="1371600"/>
                <a:gridCol w="144792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over Valley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ville Redenbache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Jolly Tim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p Weave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ian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7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8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3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8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7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5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6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1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2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6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4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9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4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6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6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9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Number of unpopped kernel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1828800"/>
          <a:ext cx="8001000" cy="4267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440"/>
                <a:gridCol w="1333440"/>
                <a:gridCol w="1333800"/>
                <a:gridCol w="13334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over Valley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ville </a:t>
                      </a: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denbacher</a:t>
                      </a:r>
                      <a:endParaRPr b="0" lang="en-US" sz="1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Jolly Tim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p Weave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ian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Number of popped and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unpopped kern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Object 5" descr=""/>
          <p:cNvPicPr/>
          <p:nvPr/>
        </p:nvPicPr>
        <p:blipFill>
          <a:blip r:embed="rId1"/>
          <a:stretch/>
        </p:blipFill>
        <p:spPr>
          <a:xfrm>
            <a:off x="514440" y="1655640"/>
            <a:ext cx="8113680" cy="4419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295280" y="571500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Clover valley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057400" y="5715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Orville Redenbach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76720" y="571500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Jolly    Tim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191120" y="57150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Pop Weav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181480" y="5791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Gi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My data supports my hypothesis that Jolly Time popcorn produced the most popcorn kern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Further Idea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Problem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Arial"/>
              </a:rPr>
              <a:t>Which popcorn brand will pop the most popcorn?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Research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Hypothesi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Jolly Time will pop the most popcorn.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445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Experimental Variable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Different popcorn brands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xperimental Group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over Valley popco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ville Redenbacher popco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olly Time popco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Weaver popco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ant popco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xperimental Procedur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1: Gather material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2: Take one bag of popcorn and remove plastic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3: Put popcorn in the center of the microwave and follow directions on the bag to coo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4: Open bag and immediately empty popcorn out into the bow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Experimental procedure continued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5: Count total number of popped kern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6: Count total number of unpopped kern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7: Record da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8: Repeat steps 2-7 three more times with the same popcorn bra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 9: Repeat steps 2-8 with a different popcorn bra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ontrol Group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tting the popcorn in the microwave and not turning the microwave 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1:26:56Z</dcterms:created>
  <dc:creator>Martin</dc:creator>
  <dc:description/>
  <dc:language>en-US</dc:language>
  <cp:lastModifiedBy>Alice M. Flarend</cp:lastModifiedBy>
  <dcterms:modified xsi:type="dcterms:W3CDTF">2011-03-04T21:28:01Z</dcterms:modified>
  <cp:revision>9</cp:revision>
  <dc:subject/>
  <dc:title>Which popcorn brand pops the most popcorn?</dc:title>
</cp:coreProperties>
</file>